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B55B-AF9E-4606-978C-7B5CC9F29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52F1-CB29-41BC-904A-66AE0988D03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CB56-1E55-4B44-B314-745281D303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DA11-0D48-46B1-9900-B9899E40CC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EBD1-2CF9-4D15-A3DC-7515E9E4A2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062A-D6F4-4DA7-91BB-CF26B92636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50D7-0B8F-4707-A099-F3276AB907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6A36-453C-4ACA-8871-121DCA57AF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96D3-8838-4204-AA65-324B9B460D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725C-4FF7-4E0E-8E1A-A925E2F5D1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601B-02AA-45E9-8AC5-155293470B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D37B9-67C2-486C-B16B-70A23D4A0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ACA6-6B15-48FF-BCCC-194F2446EC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18A75-8100-4A16-95F5-57F4051557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33464-A7FC-46AD-B930-5658B2E258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E3CA4-BA02-4739-9CC4-C95D74F65B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368CC-F4E6-48BE-9FEC-28566C8397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2105E-EB8E-431B-8FF0-E2C03D2F2C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23CDD-0632-4054-8DDB-1536941586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C4F58-B5F4-4E92-AFA0-7294CBF200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E6B06-EA50-40D5-96C8-09BADBB451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5B08E-790E-48D6-BFC4-A1E9485496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E5878-D17A-443D-A33F-F07F8F91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2B1B-2D19-427F-8EF1-279FE0D320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67CD2-6E08-4037-AA38-AB44F2B941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0B007-825B-41AF-A846-43B510F979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E9D44-FED9-4717-844E-8AC1A1F0EC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883E4-88F0-433B-89FF-237EC5CC07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66025-BA7D-4450-8C00-74453B2A59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040D5-3038-49D8-A97B-ABC0230CF7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361C8-3BEF-420C-B844-CE6523FDD9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DFB1A-9B88-477A-904E-4A8D566A57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C855F-562F-40E6-B222-4DA46A2D8E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3D310-5A0E-4AE9-B0D0-4C3EF90BE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AB8F-9B9D-4DF5-A88D-BD3774CCE2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5DC7B-9E4F-4001-871D-D3E475BEE0A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4DF74-0DB4-4E05-BB10-F71ACFCC35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BAC0D-8AF8-401F-A021-AD10A0252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1F75-7BF3-4466-A3A1-EE21DFC2E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0AAA-47ED-483A-9A8E-DCBF7C6B6B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A46A-3496-4593-B304-4A94C4202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E91B-3141-434A-8AD4-BF67E2739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5A1A-7734-4A12-ADC3-0B28C6929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9154-A676-4DCB-893D-4C8E8EB9C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091A-EA4F-4561-8ACB-F4A687B86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4606-779C-4D60-8CF6-45B0994918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DB54-9C83-4065-8BAD-79AB90A8AA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95B8-95F3-4FAC-8CD6-F3A281966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CD0A-7E8A-4489-8CA5-7E833E285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BAB1-A7ED-4B9B-8C5E-729F3E4D1F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181-B7A8-4C08-A887-AD5913CB8F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CC5-8847-4610-92EE-65E1EF0A5A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EFC-2EBB-47ED-82F7-B9481A477F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E40-1AAC-40AE-886D-BDBAED6EF4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69B-3B47-4389-B14A-56FE0BCF0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F970-A787-4488-AA78-920E463E78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087-1D8A-4F3F-8F14-CEAD69E56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E2D-31A9-47E2-968C-6EA19CC053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BB5-92CE-471F-A71C-FB939F4FA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463-1D90-4700-819B-9B81970DEE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329-F7E6-4943-A102-3BF4453A4B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411-5D55-4E75-8447-08156CE5BB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D28-0C80-4854-B435-2A721484EB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FA7F-39E6-4C4C-87B1-0C1370D871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90000-6FF9-47BE-A6F8-F440F96024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AF48B-0AD7-4AC7-9F1F-E90B035DE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CAA8-4EA2-4E74-929A-FB1F2A1031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80B2C-DBEC-4FC7-A99B-BEDC1FCECA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736D5-CC06-4AE3-AF6B-42AAA9EE85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6418-8FC2-4615-A0EB-3192EF032B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F663B-4B35-408E-8D44-3C7FC66D47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3329E-7C22-465E-8FA4-0597CACAD8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A3D4E-7EA8-420A-9B27-C16C0552D1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63947-9625-490D-9864-3DAD22E362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BD19-D1FC-421D-A67E-7F1F9E60FC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6EAD-C416-43CA-A93A-9BAD3FA208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4DB1E-0095-4786-97D9-E1C1CF9B4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714C-6496-4FAC-8A32-E449289CAF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5C7E-3C04-4226-936D-FAB4E27DE3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DA9B-8C62-4890-AE57-E97935C7F8C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C48EE-0120-4F32-8AA4-CF7C3D80E0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0A51A-2349-4D45-A733-4635AD40F4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3DBC-59B9-4840-92AB-C8BD5BB25C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BEAB0-2E84-4C4A-B3E4-8D4BF7F51C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72A32-C710-4C1D-91E9-6606F79A3C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1A20-F177-48D6-81C5-AEB835B59A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3E4A6-24F3-4D6C-BC7E-A45B69C3D4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EF817-6A0D-40E4-8BC4-225AAA86D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FC57-5B4F-490A-80EB-A39465F4BD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93B34-D675-422F-BB82-6BEA8B2962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E37-6C4A-4ADC-BAD2-6309B565CE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253-E372-4212-A421-400915FDD0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0741-C8FA-4EE6-8763-046C40A29D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B12F-9900-4FAB-950D-8D9B78941D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5E34-30C2-4822-AD17-95AF61D501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DCD-E265-418B-BAB6-EF897DE4E0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0797-C62E-437A-85AC-D47EB5D028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5539-295D-41D5-8268-DCA8EB2EC0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7111-7DC3-4817-A68D-87203D10B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C029-EC73-4373-9A12-AB3AB10554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723-6EFF-4143-8AD5-1521F2916A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8D3E-838C-4139-846A-B6E3471379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8A30-EF2F-4E47-BD09-2993DCCC69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08A33-08D5-4ED9-B574-4021C8E40A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A0497-42FE-4D3F-B87F-80DFE6897A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0EC2D-8D3F-449E-A734-F68AD05695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07CA4-C735-4181-BE33-FEF7EF3389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AF58D-599E-4A55-A21B-5736F350D5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9E08C-034E-4847-AF65-5CB1B90B39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95C8B-C1C4-4E6A-8D5F-B2D55A56B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9C52-4F55-4EA8-8D45-1E21419D46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49C52-ACD6-4D21-B809-D4CBCFE90F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F1DFE-20EC-4548-94AD-A26E6CF29D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519F7-5EBC-4050-8329-F8315202F8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D4143-2729-403D-BF97-D9C507E383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2F905-9F66-4193-9C3B-B8EF8535C8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13C04-4C59-4A3F-8471-C6A1507C2D7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FA54E-B058-43ED-A2B2-E258348601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6AC98-D8BD-44A4-8C17-7AB3BCC36F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EA7A4-5379-4D5F-B1B0-5D63E8D236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170C3-7D8B-4796-A6E5-8BE359966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C98C-9E7C-46C4-AEAC-7F74365402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0243A-91C3-4039-818C-EDA6D7D097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0A7B0-74E7-43DB-94EA-B3EE13FB1C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D1C06-6FC5-403D-AA54-139D0DD120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EDEA5-8A18-4431-9C17-2C4A9CB4E7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6A6A-A5A9-450B-900C-8C69457DF6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2A8B4-F0ED-4E83-ADD6-D82A82D692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B8B6F-415B-431F-BE71-0094261416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5CF8-E259-4FB6-80DD-EE554A6EF9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D053-FD10-4F9F-A220-80BFB03C18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1FD3-7B10-4FB6-88B3-F0AA3CA0E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DEC2-1D3A-44AF-8C41-5C00C5C94C3F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55280" y="4190760"/>
            <a:ext cx="10617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9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Num" idx="10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D55-8D89-44EB-9384-03D895E6183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Num" idx="11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054-8923-40A6-804C-4042B489FB8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3"/>
          <p:cNvSpPr>
            <a:spLocks noGrp="1"/>
          </p:cNvSpPr>
          <p:nvPr>
            <p:ph type="body"/>
          </p:nvPr>
        </p:nvSpPr>
        <p:spPr>
          <a:xfrm>
            <a:off x="946080" y="879480"/>
            <a:ext cx="10614240" cy="88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901"/>
              </a:spcBef>
              <a:buClr>
                <a:srgbClr val="66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4760" y="-177840"/>
            <a:ext cx="971388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10497600" y="8889840"/>
            <a:ext cx="3430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892-558F-4C1C-A2B1-96E32F02E11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044720" y="1023480"/>
            <a:ext cx="11693520" cy="87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1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1001"/>
              </a:spcBef>
              <a:buClr>
                <a:srgbClr val="66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7880" y="-360"/>
            <a:ext cx="9842400" cy="69372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 algn="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69B-DA28-4CAE-A078-1B7C43A8D6AA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6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6600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16C-024E-467D-8240-83739E633352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69480"/>
            <a:ext cx="11709360" cy="2266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7544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2E9-CB07-4084-8B29-82E9F431081A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140-DDCF-480D-A455-AB3A60A7AED2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69480"/>
            <a:ext cx="11709360" cy="22669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067544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F5C-C341-4667-828C-12A82AE6FDDA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151800" y="931968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846-6869-4998-BEF6-1CDEFDE6D5A8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Num" idx="9"/>
          </p:nvPr>
        </p:nvSpPr>
        <p:spPr>
          <a:xfrm>
            <a:off x="11553840" y="9036000"/>
            <a:ext cx="34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0B5-3EC3-4128-8CAB-62DDBEF8B464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655280" y="4190760"/>
            <a:ext cx="10617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9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 algn="ctr">
              <a:lnSpc>
                <a:spcPct val="96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3120" y="1041480"/>
            <a:ext cx="1076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t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isc.ac.uk/uploaded_documents/VRE%20roadmap%20v4.pdf" TargetMode="External"/><Relationship Id="rId2" Type="http://schemas.openxmlformats.org/officeDocument/2006/relationships/hyperlink" Target="http://connect.educause.edu/Library/EDUCAUSE+Review/CuratingScientificWebServ/47226" TargetMode="External"/><Relationship Id="rId3" Type="http://schemas.openxmlformats.org/officeDocument/2006/relationships/hyperlink" Target="http://doi.ieeecomputersociety.org/10.1109/eScience.2008.86" TargetMode="External"/><Relationship Id="rId4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224000" y="6362280"/>
            <a:ext cx="106171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Dr. Paolo Missi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Prof. Carole Go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Management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of Computer Science, University of Manchester, 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additional material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f. Dave DeRo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v. of Southampton, U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0" t="0" r="63455" b="0"/>
          <a:stretch/>
        </p:blipFill>
        <p:spPr>
          <a:xfrm>
            <a:off x="8255160" y="0"/>
            <a:ext cx="4749480" cy="11048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rcRect l="0" t="0" r="10413" b="0"/>
          <a:stretch/>
        </p:blipFill>
        <p:spPr>
          <a:xfrm>
            <a:off x="5440320" y="1009800"/>
            <a:ext cx="519444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0" y="0"/>
            <a:ext cx="8778240" cy="2660040"/>
            <a:chOff x="0" y="0"/>
            <a:chExt cx="8778240" cy="2660040"/>
          </a:xfrm>
        </p:grpSpPr>
        <p:pic>
          <p:nvPicPr>
            <p:cNvPr id="444" name="" descr=""/>
            <p:cNvPicPr/>
            <p:nvPr/>
          </p:nvPicPr>
          <p:blipFill>
            <a:blip r:embed="rId4"/>
            <a:srcRect l="0" t="0" r="27735" b="0"/>
            <a:stretch/>
          </p:blipFill>
          <p:spPr>
            <a:xfrm>
              <a:off x="0" y="0"/>
              <a:ext cx="36734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765880" y="2293920"/>
              <a:ext cx="601236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Arial"/>
                  <a:ea typeface="Arial"/>
                </a:rPr>
                <a:t>Scientific Workflow Management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4175280" y="4408560"/>
            <a:ext cx="84960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40680" tIns="46800" bIns="4680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4674"/>
                </a:solidFill>
                <a:latin typeface="Calibri Bold"/>
                <a:ea typeface="Calibri Bold"/>
              </a:rPr>
              <a:t>e-Labs, Research Objects, and Prove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914400" y="2870280"/>
            <a:ext cx="2336760" cy="2146320"/>
          </a:xfrm>
          <a:prstGeom prst="rect">
            <a:avLst/>
          </a:prstGeom>
          <a:ln w="0">
            <a:noFill/>
          </a:ln>
          <a:effectLst>
            <a:outerShdw dist="76164" dir="2573584" blurRad="0" rotWithShape="0">
              <a:srgbClr val="00000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AD04-640A-44FE-886C-F1C6488146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9550440" y="304920"/>
            <a:ext cx="2336760" cy="302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450120" y="7883640"/>
            <a:ext cx="2765160" cy="79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3274920" y="5732640"/>
            <a:ext cx="2652840" cy="230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449280" y="2540160"/>
            <a:ext cx="2622600" cy="193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91" name=""/>
          <p:cNvGrpSpPr/>
          <p:nvPr/>
        </p:nvGrpSpPr>
        <p:grpSpPr>
          <a:xfrm>
            <a:off x="0" y="0"/>
            <a:ext cx="2133360" cy="9369000"/>
            <a:chOff x="0" y="0"/>
            <a:chExt cx="2133360" cy="9369000"/>
          </a:xfrm>
        </p:grpSpPr>
        <p:sp>
          <p:nvSpPr>
            <p:cNvPr id="592" name=""/>
            <p:cNvSpPr/>
            <p:nvPr/>
          </p:nvSpPr>
          <p:spPr>
            <a:xfrm>
              <a:off x="644400" y="6889680"/>
              <a:ext cx="1488960" cy="247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487520" cy="247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4543560" y="1943280"/>
            <a:ext cx="3483000" cy="170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4168800" y="1015920"/>
            <a:ext cx="20192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1760" y="4673520"/>
            <a:ext cx="14223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o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551880" y="8331120"/>
            <a:ext cx="1828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7800" y="5981760"/>
            <a:ext cx="2324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ta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7"/>
          <a:stretch/>
        </p:blipFill>
        <p:spPr>
          <a:xfrm>
            <a:off x="10769760" y="3759120"/>
            <a:ext cx="1765080" cy="18432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0972800" y="6197760"/>
            <a:ext cx="1625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a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8"/>
          <a:stretch/>
        </p:blipFill>
        <p:spPr>
          <a:xfrm>
            <a:off x="7118280" y="3825720"/>
            <a:ext cx="2482920" cy="23115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961320" y="6126120"/>
            <a:ext cx="2019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l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62440" y="3679920"/>
            <a:ext cx="3240" cy="20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069400" y="2043000"/>
            <a:ext cx="1433520" cy="71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9448920" y="4673520"/>
            <a:ext cx="1828800" cy="20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464840" y="3352680"/>
            <a:ext cx="1015920" cy="71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927760" y="5216040"/>
            <a:ext cx="1332000" cy="7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323120" y="3679920"/>
            <a:ext cx="206280" cy="51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27760" y="7162920"/>
            <a:ext cx="1228680" cy="71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962920" y="5384520"/>
            <a:ext cx="2416320" cy="249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047760" y="2946240"/>
            <a:ext cx="152388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75040" y="4064040"/>
            <a:ext cx="1727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978440"/>
            <a:ext cx="149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62240" y="2552760"/>
            <a:ext cx="14097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2641680" y="4470120"/>
            <a:ext cx="120024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00800" y="7112160"/>
            <a:ext cx="1523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577440" y="7162920"/>
            <a:ext cx="20066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6560" y="1739880"/>
            <a:ext cx="1409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29400" y="3679920"/>
            <a:ext cx="1816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5011560"/>
            <a:ext cx="153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577440" y="4978440"/>
            <a:ext cx="1701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972800" y="3422520"/>
            <a:ext cx="203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07080" y="406440"/>
            <a:ext cx="2781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orkflow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49720" y="8690040"/>
            <a:ext cx="2743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orkflow 1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35680" y="8155080"/>
            <a:ext cx="250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on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914920" y="406440"/>
            <a:ext cx="658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Q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04920" y="203040"/>
            <a:ext cx="3149640" cy="1117440"/>
            <a:chOff x="304920" y="203040"/>
            <a:chExt cx="3149640" cy="1117440"/>
          </a:xfrm>
        </p:grpSpPr>
        <p:sp>
          <p:nvSpPr>
            <p:cNvPr id="628" name=""/>
            <p:cNvSpPr/>
            <p:nvPr/>
          </p:nvSpPr>
          <p:spPr>
            <a:xfrm>
              <a:off x="304920" y="203040"/>
              <a:ext cx="314964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2160" y="380880"/>
              <a:ext cx="3035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1600" tIns="38160" bIns="38160" anchor="ctr">
              <a:noAutofit/>
            </a:bodyPr>
            <a:p>
              <a:pPr marL="34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ul’s Pac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04920" y="203040"/>
            <a:ext cx="3149640" cy="2133720"/>
            <a:chOff x="304920" y="203040"/>
            <a:chExt cx="3149640" cy="2133720"/>
          </a:xfrm>
        </p:grpSpPr>
        <p:sp>
          <p:nvSpPr>
            <p:cNvPr id="631" name=""/>
            <p:cNvSpPr/>
            <p:nvPr/>
          </p:nvSpPr>
          <p:spPr>
            <a:xfrm>
              <a:off x="304920" y="203040"/>
              <a:ext cx="3149640" cy="213372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440" y="203040"/>
              <a:ext cx="29466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09800" tIns="38160" bIns="38160" anchor="ctr">
              <a:noAutofit/>
            </a:bodyPr>
            <a:p>
              <a:pPr marL="33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ul’s Research Objec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33360" y="914400"/>
            <a:ext cx="11147400" cy="32511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rcRect l="0" t="0" r="0" b="14348"/>
          <a:stretch/>
        </p:blipFill>
        <p:spPr>
          <a:xfrm>
            <a:off x="304920" y="4267080"/>
            <a:ext cx="6197400" cy="4572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04920" y="9042480"/>
            <a:ext cx="792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of the A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, 4 (Apr. 2008), 52-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06440" y="406440"/>
            <a:ext cx="661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tific Discourse Relationships Ontology Spec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10014120" y="2235240"/>
            <a:ext cx="2381040" cy="23367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6705720" y="4876920"/>
            <a:ext cx="6168960" cy="33526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8356680" y="8331120"/>
            <a:ext cx="405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Provena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12828600" cy="9753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379320" y="9183600"/>
            <a:ext cx="23515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vid Sh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06080" y="406080"/>
            <a:ext cx="1219212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alibri"/>
              </a:rPr>
              <a:t>David De Ro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der@ecs.soton.ac.u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alibri"/>
              </a:rPr>
              <a:t>Carole Go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ole.goble@manchester.ac.uk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wiki.myexperiment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0058400" y="406440"/>
            <a:ext cx="2460600" cy="8157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404640" y="406440"/>
            <a:ext cx="2814840" cy="11145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rcRect l="0" t="0" r="10413" b="0"/>
          <a:stretch/>
        </p:blipFill>
        <p:spPr>
          <a:xfrm>
            <a:off x="4572000" y="8158320"/>
            <a:ext cx="41148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06080" y="1726920"/>
            <a:ext cx="1219212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an, R., Allden, A., Boyd, D., Crouchley, R., Harris, N., Lyon, L., Robiette, A., De Roure, D. and Wilson, S. Roadmap for a UK Virtual Research Environment: Report of the JCSR VRE Working Group, JISC, 2004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jisc.ac.uk/uploaded_documents/VRE%20roadmap%20v4.pd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urating Scientific Web Services and Workf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Carole Goble and David De Roure. EDUCAUSE Review, vol. 43, no. 5 (September/October 20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connect.educause.edu/Library/EDUCAUSE+Review/CuratingScientificWebServ/4722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Roure, D., Goble, C., Bhagat, J., Cruickshank, D., Goderis, A., Michaelides, D. and Newman, D. (2008) myExperiment: Defining the Social Virtual Research Environment. In: 4th IEEE International Conference on e-Science, 7-12 December 2008, Indianapolis, Indiana, USA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doi:10.1109/eScience.2008.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Roure, D. and Goble, C. (2009) "Software Design for Empowering Scientists," IEEE Software, vol. 26, no. 1, pp. 88-95, January/February 2009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oi:10.1109/MS.2009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c Moreau, Juliana Freire, Joe Futrelle, Robert E. McGrath, Jim Myers, Patrick Paulson: The Open Provenance Model: An Overview. IPAW 2008: LNCS 5272, Springer-Verlag , pp. 323–326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406080" y="85680"/>
            <a:ext cx="12192120" cy="1641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13004640" cy="777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-4443840" y="4443840"/>
            <a:ext cx="9752040" cy="863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3238560" cy="27687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8559720" y="934236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800" tIns="0" bIns="0" anchor="t">
            <a:noAutofit/>
          </a:bodyPr>
          <a:p>
            <a:pPr marL="55440">
              <a:lnSpc>
                <a:spcPct val="92000"/>
              </a:lnSpc>
              <a:tabLst>
                <a:tab algn="l" pos="0"/>
                <a:tab algn="l" pos="50760"/>
                <a:tab algn="l" pos="685800"/>
                <a:tab algn="l" pos="1333440"/>
                <a:tab algn="l" pos="1968480"/>
                <a:tab algn="l" pos="2603520"/>
                <a:tab algn="l" pos="3251160"/>
                <a:tab algn="l" pos="3886200"/>
                <a:tab algn="l" pos="4533840"/>
                <a:tab algn="l" pos="5168880"/>
                <a:tab algn="l" pos="5803920"/>
                <a:tab algn="l" pos="6451560"/>
                <a:tab algn="l" pos="7086600"/>
                <a:tab algn="l" pos="7709040"/>
                <a:tab algn="l" pos="8356680"/>
                <a:tab algn="l" pos="8991720"/>
                <a:tab algn="l" pos="9639360"/>
                <a:tab algn="l" pos="10274400"/>
                <a:tab algn="l" pos="10909440"/>
                <a:tab algn="l" pos="11557080"/>
                <a:tab algn="l" pos="12192120"/>
                <a:tab algn="l" pos="12827160"/>
                <a:tab algn="l" pos="1283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 meeting,Santa Barbara, CA, July  2009 - P. Mis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74760" y="-177840"/>
            <a:ext cx="971388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ance in Taverna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778040" y="1600200"/>
            <a:ext cx="5549760" cy="654048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8242200" y="1015920"/>
            <a:ext cx="4533840" cy="2793960"/>
            <a:chOff x="8242200" y="1015920"/>
            <a:chExt cx="4533840" cy="2793960"/>
          </a:xfrm>
        </p:grpSpPr>
        <p:sp>
          <p:nvSpPr>
            <p:cNvPr id="455" name=""/>
            <p:cNvSpPr/>
            <p:nvPr/>
          </p:nvSpPr>
          <p:spPr>
            <a:xfrm>
              <a:off x="8242200" y="101592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023560" y="101592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hw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41880" y="19684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008640" y="22096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1880" y="27558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008640" y="29970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056760" y="196848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158280" y="236196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56760" y="266688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269440" y="20066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535840" y="22478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15560" y="29970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226600" y="1981080"/>
              <a:ext cx="1320840" cy="85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25360" y="1968480"/>
              <a:ext cx="533160" cy="109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245520" y="2997000"/>
              <a:ext cx="2806560" cy="303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45520" y="2413080"/>
              <a:ext cx="1981080" cy="131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12000" y="1968480"/>
              <a:ext cx="533520" cy="69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12000" y="2755800"/>
              <a:ext cx="533520" cy="69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796000" y="1015920"/>
            <a:ext cx="235692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st-structu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GG gene i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[ mmu:26416 ]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mmu:328788 ]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26400" y="7035840"/>
            <a:ext cx="449424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path:mmu04010 MAPK signali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h:mmu04370 VEGF signaling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959520" y="7137360"/>
            <a:ext cx="914400" cy="10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86280" y="7746840"/>
            <a:ext cx="228600" cy="50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761720" y="1739880"/>
            <a:ext cx="100332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394840" y="4000680"/>
            <a:ext cx="4533840" cy="2793960"/>
            <a:chOff x="8394840" y="4000680"/>
            <a:chExt cx="4533840" cy="2793960"/>
          </a:xfrm>
        </p:grpSpPr>
        <p:sp>
          <p:nvSpPr>
            <p:cNvPr id="479" name=""/>
            <p:cNvSpPr/>
            <p:nvPr/>
          </p:nvSpPr>
          <p:spPr>
            <a:xfrm>
              <a:off x="8394840" y="400068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176200" y="4000680"/>
              <a:ext cx="1752480" cy="27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t">
              <a:no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hw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894520" y="49532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161280" y="51944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894520" y="57405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61280" y="59817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209400" y="495324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10920" y="5346720"/>
              <a:ext cx="240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209400" y="565164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422080" y="49914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688480" y="523260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968200" y="5981760"/>
              <a:ext cx="203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66640" y="4876920"/>
              <a:ext cx="1231920" cy="71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078000" y="5448600"/>
              <a:ext cx="533160" cy="596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283680" y="5981760"/>
              <a:ext cx="2921040" cy="312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283680" y="5397840"/>
              <a:ext cx="2095560" cy="129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740960" y="8140680"/>
            <a:ext cx="95130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[ path:mmu04210 Apoptosis, path:mmu04010 MAPK signaling, ...]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 path:mmu04010 MAPK signaling , path:mmu04620 Toll-like receptor, ...]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31840" y="8204040"/>
            <a:ext cx="8141040" cy="330480"/>
          </a:xfrm>
          <a:prstGeom prst="roundRect">
            <a:avLst>
              <a:gd name="adj" fmla="val 50000"/>
            </a:avLst>
          </a:prstGeom>
          <a:solidFill>
            <a:srgbClr val="cdcdcd">
              <a:alpha val="50000"/>
            </a:srgbClr>
          </a:solidFill>
          <a:ln w="1260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943600" y="1994040"/>
            <a:ext cx="1968480" cy="330120"/>
          </a:xfrm>
          <a:prstGeom prst="roundRect">
            <a:avLst>
              <a:gd name="adj" fmla="val 50000"/>
            </a:avLst>
          </a:prstGeom>
          <a:solidFill>
            <a:srgbClr val="cdcdcd">
              <a:alpha val="50000"/>
            </a:srgbClr>
          </a:solidFill>
          <a:ln w="1260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58280" y="2286000"/>
            <a:ext cx="358560" cy="590544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031840" y="2362320"/>
            <a:ext cx="8750160" cy="6464160"/>
            <a:chOff x="2031840" y="2362320"/>
            <a:chExt cx="8750160" cy="6464160"/>
          </a:xfrm>
        </p:grpSpPr>
        <p:sp>
          <p:nvSpPr>
            <p:cNvPr id="500" name=""/>
            <p:cNvSpPr/>
            <p:nvPr/>
          </p:nvSpPr>
          <p:spPr>
            <a:xfrm>
              <a:off x="2031840" y="8496360"/>
              <a:ext cx="8750160" cy="330120"/>
            </a:xfrm>
            <a:prstGeom prst="roundRect">
              <a:avLst>
                <a:gd name="adj" fmla="val 50000"/>
              </a:avLst>
            </a:prstGeom>
            <a:solidFill>
              <a:srgbClr val="cdcdcd">
                <a:alpha val="50000"/>
              </a:srgbClr>
            </a:solidFill>
            <a:ln w="1260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43600" y="2362320"/>
              <a:ext cx="1981080" cy="330120"/>
            </a:xfrm>
            <a:prstGeom prst="roundRect">
              <a:avLst>
                <a:gd name="adj" fmla="val 50000"/>
              </a:avLst>
            </a:prstGeom>
            <a:solidFill>
              <a:srgbClr val="cdcdcd">
                <a:alpha val="50000"/>
              </a:srgbClr>
            </a:solidFill>
            <a:ln w="1260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56360" y="2692440"/>
              <a:ext cx="1184040" cy="5931000"/>
            </a:xfrm>
            <a:prstGeom prst="pie">
              <a:avLst/>
            </a:prstGeom>
            <a:noFill/>
            <a:ln w="19080">
              <a:solidFill>
                <a:srgbClr val="ff271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9435960" y="4888080"/>
            <a:ext cx="2197080" cy="48420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245520" y="1903320"/>
            <a:ext cx="2387520" cy="306360"/>
          </a:xfrm>
          <a:prstGeom prst="pie">
            <a:avLst/>
          </a:prstGeom>
          <a:noFill/>
          <a:ln w="19080">
            <a:solidFill>
              <a:srgbClr val="ff271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C2F2-7D43-43E6-8772-CCA9579698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 flipV="1">
            <a:off x="4991040" y="4009680"/>
            <a:ext cx="0" cy="1917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84960" y="7035840"/>
            <a:ext cx="2706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54760" y="448308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280040" y="4483080"/>
            <a:ext cx="614160" cy="5461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0"/>
            <a:ext cx="13004640" cy="70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-4481280" y="4481280"/>
            <a:ext cx="9750600" cy="78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2933640" cy="2502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559720" y="934236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800" tIns="0" bIns="0" anchor="t">
            <a:noAutofit/>
          </a:bodyPr>
          <a:p>
            <a:pPr marL="55440">
              <a:lnSpc>
                <a:spcPct val="92000"/>
              </a:lnSpc>
              <a:tabLst>
                <a:tab algn="l" pos="0"/>
                <a:tab algn="l" pos="50760"/>
                <a:tab algn="l" pos="685800"/>
                <a:tab algn="l" pos="1333440"/>
                <a:tab algn="l" pos="1968480"/>
                <a:tab algn="l" pos="2603520"/>
                <a:tab algn="l" pos="3251160"/>
                <a:tab algn="l" pos="3886200"/>
                <a:tab algn="l" pos="4533840"/>
                <a:tab algn="l" pos="5168880"/>
                <a:tab algn="l" pos="5803920"/>
                <a:tab algn="l" pos="6451560"/>
                <a:tab algn="l" pos="7086600"/>
                <a:tab algn="l" pos="7709040"/>
                <a:tab algn="l" pos="8356680"/>
                <a:tab algn="l" pos="8991720"/>
                <a:tab algn="l" pos="9639360"/>
                <a:tab algn="l" pos="10274400"/>
                <a:tab algn="l" pos="10909440"/>
                <a:tab algn="l" pos="11557080"/>
                <a:tab algn="l" pos="12192120"/>
                <a:tab algn="l" pos="12827160"/>
                <a:tab algn="l" pos="1283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IP meeting,Santa Barbara, CA, July  2009 - P. Mis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74760" y="-114480"/>
            <a:ext cx="972324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2000"/>
              </a:lnSpc>
              <a:buNone/>
              <a:tabLst>
                <a:tab algn="l" pos="0"/>
                <a:tab algn="l" pos="635040"/>
                <a:tab algn="l" pos="1282680"/>
                <a:tab algn="l" pos="1917720"/>
                <a:tab algn="l" pos="2552760"/>
                <a:tab algn="l" pos="3200400"/>
                <a:tab algn="l" pos="3835440"/>
                <a:tab algn="l" pos="4483080"/>
                <a:tab algn="l" pos="5105520"/>
                <a:tab algn="l" pos="5740560"/>
                <a:tab algn="l" pos="6388200"/>
                <a:tab algn="l" pos="7023240"/>
                <a:tab algn="l" pos="7658280"/>
                <a:tab algn="l" pos="8305920"/>
                <a:tab algn="l" pos="8940960"/>
                <a:tab algn="l" pos="9588600"/>
                <a:tab algn="l" pos="10223640"/>
                <a:tab algn="l" pos="10858680"/>
                <a:tab algn="l" pos="11506320"/>
                <a:tab algn="l" pos="12141360"/>
                <a:tab algn="l" pos="12776040"/>
                <a:tab algn="l" pos="12789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ance managem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1266840" y="2316240"/>
            <a:ext cx="1701720" cy="2897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4483080" y="851040"/>
            <a:ext cx="1015920" cy="915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4354560" y="2792520"/>
            <a:ext cx="1295280" cy="1269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181320" y="2400480"/>
            <a:ext cx="11314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v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7080" y="1579680"/>
            <a:ext cx="2070000" cy="70632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73920" y="1219320"/>
            <a:ext cx="10857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24960" y="2768760"/>
            <a:ext cx="2184480" cy="1269720"/>
          </a:xfrm>
          <a:prstGeom prst="roundRect">
            <a:avLst>
              <a:gd name="adj" fmla="val 15000"/>
            </a:avLst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enance cap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070680" y="2844720"/>
            <a:ext cx="2006640" cy="1130400"/>
          </a:xfrm>
          <a:prstGeom prst="rightArrow">
            <a:avLst>
              <a:gd name="adj1" fmla="val 32000"/>
              <a:gd name="adj2" fmla="val 49441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4560" y="1066680"/>
            <a:ext cx="2743200" cy="1244880"/>
          </a:xfrm>
          <a:prstGeom prst="rect">
            <a:avLst/>
          </a:prstGeom>
          <a:solidFill>
            <a:srgbClr val="84d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enanc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 ar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946200" y="2336760"/>
            <a:ext cx="64764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6600" y="0"/>
            <a:ext cx="10573560" cy="7412400"/>
            <a:chOff x="66600" y="0"/>
            <a:chExt cx="10573560" cy="7412400"/>
          </a:xfrm>
        </p:grpSpPr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66600" y="0"/>
              <a:ext cx="15750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9042480" y="6769080"/>
              <a:ext cx="15976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2560"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 rot="5400000">
            <a:off x="9080280" y="4749480"/>
            <a:ext cx="1676520" cy="851040"/>
          </a:xfrm>
          <a:prstGeom prst="rightArrow">
            <a:avLst>
              <a:gd name="adj1" fmla="val 32000"/>
              <a:gd name="adj2" fmla="val 65665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023560" y="7861320"/>
            <a:ext cx="1562040" cy="685800"/>
          </a:xfrm>
          <a:prstGeom prst="rect">
            <a:avLst/>
          </a:prstGeom>
          <a:solidFill>
            <a:srgbClr val="84d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375920" y="748044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43880" y="6553080"/>
            <a:ext cx="1879560" cy="952560"/>
          </a:xfrm>
          <a:prstGeom prst="roundRect">
            <a:avLst>
              <a:gd name="adj" fmla="val 20000"/>
            </a:avLst>
          </a:prstGeom>
          <a:solidFill>
            <a:srgbClr val="cdcd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2560" tIns="0" bIns="0" anchor="ctr">
            <a:no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0400" y="5029200"/>
            <a:ext cx="992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2692440" y="1181160"/>
            <a:ext cx="419040" cy="40788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3035160" y="5969160"/>
            <a:ext cx="3327480" cy="2171520"/>
            <a:chOff x="3035160" y="5969160"/>
            <a:chExt cx="3327480" cy="2171520"/>
          </a:xfrm>
        </p:grpSpPr>
        <p:sp>
          <p:nvSpPr>
            <p:cNvPr id="534" name=""/>
            <p:cNvSpPr/>
            <p:nvPr/>
          </p:nvSpPr>
          <p:spPr>
            <a:xfrm>
              <a:off x="3035160" y="5969160"/>
              <a:ext cx="3327480" cy="2171520"/>
            </a:xfrm>
            <a:prstGeom prst="rect">
              <a:avLst/>
            </a:prstGeom>
            <a:solidFill>
              <a:srgbClr val="9a9a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00400" y="6514920"/>
              <a:ext cx="2869920" cy="711000"/>
            </a:xfrm>
            <a:prstGeom prst="roundRect">
              <a:avLst>
                <a:gd name="adj" fmla="val 26782"/>
              </a:avLst>
            </a:prstGeom>
            <a:solidFill>
              <a:srgbClr val="cdcd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ctr">
              <a:noAutofit/>
            </a:bodyPr>
            <a:p>
              <a:pPr marL="52560"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s brow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4840" y="5994360"/>
              <a:ext cx="21283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2560" tIns="0" bIns="0" anchor="t">
              <a:spAutoFit/>
            </a:bodyPr>
            <a:p>
              <a:pPr marL="52560" algn="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s 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74840" y="7365960"/>
              <a:ext cx="2908440" cy="710640"/>
            </a:xfrm>
            <a:prstGeom prst="roundRect">
              <a:avLst>
                <a:gd name="adj" fmla="val 26782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52560" tIns="0" bIns="0" anchor="ctr">
              <a:noAutofit/>
            </a:bodyPr>
            <a:p>
              <a:pPr marL="5256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brow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9"/>
          <a:stretch/>
        </p:blipFill>
        <p:spPr>
          <a:xfrm>
            <a:off x="851040" y="6540480"/>
            <a:ext cx="1031760" cy="927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689120" y="6794640"/>
            <a:ext cx="1270080" cy="368280"/>
          </a:xfrm>
          <a:prstGeom prst="leftRightArrow">
            <a:avLst>
              <a:gd name="adj1" fmla="val 32000"/>
              <a:gd name="adj2" fmla="val 15174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628720" y="3489480"/>
            <a:ext cx="168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991040" y="166644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46120" y="1892160"/>
            <a:ext cx="992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2560" tIns="0" bIns="0" anchor="t">
            <a:spAutoFit/>
          </a:bodyPr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56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77A-3113-4124-B688-0DA82B3802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56080" y="8026560"/>
            <a:ext cx="5689440" cy="1523880"/>
            <a:chOff x="3556080" y="8026560"/>
            <a:chExt cx="5689440" cy="1523880"/>
          </a:xfrm>
        </p:grpSpPr>
        <p:sp>
          <p:nvSpPr>
            <p:cNvPr id="545" name=""/>
            <p:cNvSpPr/>
            <p:nvPr/>
          </p:nvSpPr>
          <p:spPr>
            <a:xfrm>
              <a:off x="3556080" y="8026560"/>
              <a:ext cx="56894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56080" y="8026560"/>
              <a:ext cx="56894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767040" y="8331120"/>
            <a:ext cx="537696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711360" y="6257880"/>
            <a:ext cx="5486400" cy="3048120"/>
            <a:chOff x="711360" y="6257880"/>
            <a:chExt cx="5486400" cy="3048120"/>
          </a:xfrm>
        </p:grpSpPr>
        <p:sp>
          <p:nvSpPr>
            <p:cNvPr id="549" name=""/>
            <p:cNvSpPr/>
            <p:nvPr/>
          </p:nvSpPr>
          <p:spPr>
            <a:xfrm>
              <a:off x="711360" y="6257880"/>
              <a:ext cx="5486400" cy="304812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58960" y="6405480"/>
              <a:ext cx="518940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914400" y="2133720"/>
            <a:ext cx="518148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User Pro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ri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T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Develop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Credits and At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ine control over priv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P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Fed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3352"/>
                </a:solidFill>
                <a:latin typeface="Arial"/>
                <a:ea typeface="Arial"/>
              </a:rPr>
              <a:t>Enac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11360" y="507960"/>
            <a:ext cx="7111800" cy="1117440"/>
            <a:chOff x="711360" y="507960"/>
            <a:chExt cx="7111800" cy="1117440"/>
          </a:xfrm>
        </p:grpSpPr>
        <p:sp>
          <p:nvSpPr>
            <p:cNvPr id="553" name=""/>
            <p:cNvSpPr/>
            <p:nvPr/>
          </p:nvSpPr>
          <p:spPr>
            <a:xfrm>
              <a:off x="711360" y="507960"/>
              <a:ext cx="711180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1760" y="639720"/>
              <a:ext cx="700992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04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yExperiment Feature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92920" y="1828800"/>
            <a:ext cx="5626080" cy="6962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16200000">
            <a:off x="-744840" y="7512840"/>
            <a:ext cx="191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Distin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rcRect l="13219" t="0" r="11380" b="0"/>
          <a:stretch/>
        </p:blipFill>
        <p:spPr>
          <a:xfrm>
            <a:off x="609480" y="406440"/>
            <a:ext cx="8331480" cy="289872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58" name="" descr=""/>
          <p:cNvPicPr/>
          <p:nvPr/>
        </p:nvPicPr>
        <p:blipFill>
          <a:blip r:embed="rId2"/>
          <a:srcRect l="12853" t="0" r="11854" b="0"/>
          <a:stretch/>
        </p:blipFill>
        <p:spPr>
          <a:xfrm>
            <a:off x="1320840" y="1828800"/>
            <a:ext cx="8331120" cy="453708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59" name="" descr=""/>
          <p:cNvPicPr/>
          <p:nvPr/>
        </p:nvPicPr>
        <p:blipFill>
          <a:blip r:embed="rId3"/>
          <a:srcRect l="12145" t="0" r="11251" b="0"/>
          <a:stretch/>
        </p:blipFill>
        <p:spPr>
          <a:xfrm>
            <a:off x="2336760" y="3251160"/>
            <a:ext cx="8331120" cy="425304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60" name="" descr=""/>
          <p:cNvPicPr/>
          <p:nvPr/>
        </p:nvPicPr>
        <p:blipFill>
          <a:blip r:embed="rId4"/>
          <a:srcRect l="12822" t="0" r="12070" b="0"/>
          <a:stretch/>
        </p:blipFill>
        <p:spPr>
          <a:xfrm>
            <a:off x="3251160" y="5011560"/>
            <a:ext cx="8331120" cy="323712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5"/>
          <a:srcRect l="12806" t="0" r="12179" b="27191"/>
          <a:stretch/>
        </p:blipFill>
        <p:spPr>
          <a:xfrm>
            <a:off x="4165560" y="6840360"/>
            <a:ext cx="8331120" cy="2608560"/>
          </a:xfrm>
          <a:prstGeom prst="rect">
            <a:avLst/>
          </a:prstGeom>
          <a:ln w="12600">
            <a:solidFill>
              <a:srgbClr val="262626"/>
            </a:solidFill>
            <a:miter/>
          </a:ln>
        </p:spPr>
      </p:pic>
      <p:grpSp>
        <p:nvGrpSpPr>
          <p:cNvPr id="562" name=""/>
          <p:cNvGrpSpPr/>
          <p:nvPr/>
        </p:nvGrpSpPr>
        <p:grpSpPr>
          <a:xfrm>
            <a:off x="9855360" y="304920"/>
            <a:ext cx="2743200" cy="1627200"/>
            <a:chOff x="9855360" y="304920"/>
            <a:chExt cx="2743200" cy="1627200"/>
          </a:xfrm>
        </p:grpSpPr>
        <p:sp>
          <p:nvSpPr>
            <p:cNvPr id="563" name=""/>
            <p:cNvSpPr/>
            <p:nvPr/>
          </p:nvSpPr>
          <p:spPr>
            <a:xfrm>
              <a:off x="9855360" y="304920"/>
              <a:ext cx="2743200" cy="162576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934560" y="306360"/>
              <a:ext cx="257832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4480" tIns="38160" bIns="38160" anchor="ctr">
              <a:no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cks in Practice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2031840"/>
            <a:ext cx="12995280" cy="51818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656160" y="7823160"/>
            <a:ext cx="83325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507960" y="507960"/>
            <a:ext cx="4368960" cy="1117440"/>
            <a:chOff x="507960" y="507960"/>
            <a:chExt cx="4368960" cy="1117440"/>
          </a:xfrm>
        </p:grpSpPr>
        <p:sp>
          <p:nvSpPr>
            <p:cNvPr id="568" name=""/>
            <p:cNvSpPr/>
            <p:nvPr/>
          </p:nvSpPr>
          <p:spPr>
            <a:xfrm>
              <a:off x="507960" y="507960"/>
              <a:ext cx="4368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0520" y="685800"/>
              <a:ext cx="4267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320" tIns="38160" bIns="38160" anchor="ctr">
              <a:noAutofit/>
            </a:bodyPr>
            <a:p>
              <a:pPr marL="34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xporting pac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rcRect l="17584" t="11029" r="17534" b="13260"/>
          <a:stretch/>
        </p:blipFill>
        <p:spPr>
          <a:xfrm>
            <a:off x="101520" y="1727280"/>
            <a:ext cx="8856720" cy="721368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304920" y="406440"/>
            <a:ext cx="5790960" cy="1117440"/>
            <a:chOff x="304920" y="406440"/>
            <a:chExt cx="5790960" cy="1117440"/>
          </a:xfrm>
        </p:grpSpPr>
        <p:sp>
          <p:nvSpPr>
            <p:cNvPr id="572" name=""/>
            <p:cNvSpPr/>
            <p:nvPr/>
          </p:nvSpPr>
          <p:spPr>
            <a:xfrm>
              <a:off x="304920" y="406440"/>
              <a:ext cx="5790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5320" y="584280"/>
              <a:ext cx="5689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-Laboratory Lifecyc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9042480" y="507960"/>
            <a:ext cx="3759120" cy="80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ocal projects using Taverna and/or my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y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n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besity eLa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ared Geno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rohu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ombeC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ifeGu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BB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yExperimenta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914400" y="1727280"/>
            <a:ext cx="7912080" cy="5214960"/>
            <a:chOff x="914400" y="1727280"/>
            <a:chExt cx="7912080" cy="5214960"/>
          </a:xfrm>
        </p:grpSpPr>
        <p:sp>
          <p:nvSpPr>
            <p:cNvPr id="576" name=""/>
            <p:cNvSpPr/>
            <p:nvPr/>
          </p:nvSpPr>
          <p:spPr>
            <a:xfrm>
              <a:off x="914400" y="1727280"/>
              <a:ext cx="7912080" cy="521496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14400" y="2141640"/>
              <a:ext cx="7912080" cy="43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st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rent practice of early adoptors of e-Labs tools such as Taverna, ELNs, LIM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ed by researchers using tools within their particular problem area, with some re-use of tools, data and methods within the discipli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itional publishing is supplemented by publication of some digital items like workflows and links to dat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is recorded but not shared and re-u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ience is accelerated and practice beginning to shift to emphasi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silico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04920" y="406440"/>
            <a:ext cx="5790960" cy="1117440"/>
            <a:chOff x="304920" y="406440"/>
            <a:chExt cx="5790960" cy="1117440"/>
          </a:xfrm>
        </p:grpSpPr>
        <p:sp>
          <p:nvSpPr>
            <p:cNvPr id="579" name=""/>
            <p:cNvSpPr/>
            <p:nvPr/>
          </p:nvSpPr>
          <p:spPr>
            <a:xfrm>
              <a:off x="304920" y="406440"/>
              <a:ext cx="5790960" cy="1117440"/>
            </a:xfrm>
            <a:prstGeom prst="roundRect">
              <a:avLst>
                <a:gd name="adj" fmla="val 11718"/>
              </a:avLst>
            </a:prstGeom>
            <a:solidFill>
              <a:srgbClr val="dce6f2"/>
            </a:solidFill>
            <a:ln w="0">
              <a:noFill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5320" y="584280"/>
              <a:ext cx="5689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-Laboratory Evolu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438280" y="2540160"/>
            <a:ext cx="7912080" cy="6095880"/>
            <a:chOff x="2438280" y="2540160"/>
            <a:chExt cx="7912080" cy="6095880"/>
          </a:xfrm>
        </p:grpSpPr>
        <p:sp>
          <p:nvSpPr>
            <p:cNvPr id="582" name=""/>
            <p:cNvSpPr/>
            <p:nvPr/>
          </p:nvSpPr>
          <p:spPr>
            <a:xfrm>
              <a:off x="2438280" y="2540160"/>
              <a:ext cx="7912080" cy="6095880"/>
            </a:xfrm>
            <a:prstGeom prst="rect">
              <a:avLst/>
            </a:prstGeom>
            <a:solidFill>
              <a:srgbClr val="ffe2a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38280" y="3179880"/>
              <a:ext cx="79120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nd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ing and delivering now, based on experience with Taverna, myExperiment and Lablo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characteristic is re-use - of the increasing pool of tools, data and methods, across areas &amp; discipline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ain some freestanding, recombinant, reproducible Research Object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analytics plays a ro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t curation supplemented by community cur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scientific practices are established and opportunities arise for completely new scientific investig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253040" y="3352680"/>
            <a:ext cx="7912080" cy="6197760"/>
            <a:chOff x="4253040" y="3352680"/>
            <a:chExt cx="7912080" cy="6197760"/>
          </a:xfrm>
        </p:grpSpPr>
        <p:sp>
          <p:nvSpPr>
            <p:cNvPr id="585" name=""/>
            <p:cNvSpPr/>
            <p:nvPr/>
          </p:nvSpPr>
          <p:spPr>
            <a:xfrm>
              <a:off x="4253040" y="3352680"/>
              <a:ext cx="7912080" cy="619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53040" y="3636720"/>
              <a:ext cx="791208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rd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ision - the e-Labs we'll be delivering in 5 years - illustrated by open science and open source scie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ed by global reuse of tools, data and methods across any discipline, and surfacing the right levels of complexity for the researche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characteristic i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cal shar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arch is significantly data driven - plundering the backlog of data, results and method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arch Objects supersede pape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ing automation and decision-support for the researcher - the e-Laboratory becomes assistiv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ance assists desig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ation is autonomic and soci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7240">
                <a:lnSpc>
                  <a:spcPct val="9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rely new research outcomes are obtai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